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35.wmf" ContentType="image/x-wmf"/>
  <Override PartName="/ppt/media/image15.jpeg" ContentType="image/jpeg"/>
  <Override PartName="/ppt/media/image14.png" ContentType="image/png"/>
  <Override PartName="/ppt/media/image13.jpeg" ContentType="image/jpeg"/>
  <Override PartName="/ppt/media/image30.jpeg" ContentType="image/jpeg"/>
  <Override PartName="/ppt/media/image37.wmf" ContentType="image/x-wmf"/>
  <Override PartName="/ppt/media/image33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34.jpeg" ContentType="image/jpeg"/>
  <Override PartName="/ppt/media/image40.wmf" ContentType="image/x-wmf"/>
  <Override PartName="/ppt/media/image7.jpeg" ContentType="image/jpeg"/>
  <Override PartName="/ppt/media/image28.jpeg" ContentType="image/jpeg"/>
  <Override PartName="/ppt/media/image36.wmf" ContentType="image/x-wmf"/>
  <Override PartName="/ppt/media/image32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8.gif" ContentType="image/gif"/>
  <Override PartName="/ppt/media/image39.wmf" ContentType="image/x-wmf"/>
  <Override PartName="/ppt/media/image41.png" ContentType="image/png"/>
  <Override PartName="/ppt/media/image8.jpeg" ContentType="image/jpeg"/>
  <Override PartName="/ppt/media/image5.png" ContentType="image/png"/>
  <Override PartName="/ppt/media/image29.jpeg" ContentType="image/jpeg"/>
  <Override PartName="/ppt/media/image11.jpeg" ContentType="image/jpeg"/>
  <Override PartName="/ppt/media/image9.jpeg" ContentType="image/jpeg"/>
  <Override PartName="/ppt/media/image3.png" ContentType="image/png"/>
  <Override PartName="/ppt/media/image17.jpeg" ContentType="image/jpe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77075" cy="93821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7ECD-7A4E-494F-ABB4-152EC126A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4489-5FAC-4356-9A4D-2D4468D63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39D0-C6E9-443C-B5B1-C661A4CC1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C741-7778-46F6-99AF-B1FD05365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3394D-744F-4857-884A-FFC7C03EF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05919-3310-474D-8D35-74D49023F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875EA-3290-4073-B89B-9BD47A6D2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18852-0B12-4E09-8E33-77751A87B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A67DF-13E3-4274-8FCB-6A011B6F8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2EB42-8A5D-40BE-844C-E2AD36127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D8C47-0E67-48F2-8319-2EDA960D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7BCB-F399-47C9-B53A-6AB1C43A4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49309-6B88-4302-8233-1F90EDD6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BD15F-6E94-4779-B99D-D040701E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D8092-9BC3-4B42-8C5C-C3D38B0A5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547B4-E710-468D-9A84-41C250BF0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581ED-2B68-4FF3-84BF-16B6D8E06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A435-2DB9-48DA-9BE3-B67BB2523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9319-C475-44CA-9DFA-13255A1BD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6CDE-D5EF-4088-95D3-E9103C00D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F12A-3B80-41B6-A2FC-DA0EB2F5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7B2C-5E08-453F-8F1C-9646A354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422C-649B-478C-9DAD-4B738EFF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7C82-3AD7-4187-80CF-B4ACAAFB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35981-701F-44B3-9C58-7FD4259507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DBC91-4DA3-495C-8468-937979E8C13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image" Target="../media/image38.gif"/><Relationship Id="rId5" Type="http://schemas.openxmlformats.org/officeDocument/2006/relationships/image" Target="../media/image39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History of the Cel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07-00-Cell.jpg"/>
          <p:cNvPicPr/>
          <p:nvPr/>
        </p:nvPicPr>
        <p:blipFill>
          <a:blip r:embed="rId1"/>
          <a:stretch/>
        </p:blipFill>
        <p:spPr>
          <a:xfrm>
            <a:off x="1447920" y="2438280"/>
            <a:ext cx="6019560" cy="39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tthias Schleid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3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to conclude that all plants are made of cel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6781680" y="3809880"/>
            <a:ext cx="1771920" cy="21891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3200400" y="3886200"/>
            <a:ext cx="2919240" cy="21891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5"/>
          <a:stretch/>
        </p:blipFill>
        <p:spPr>
          <a:xfrm>
            <a:off x="609480" y="3505320"/>
            <a:ext cx="21337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odor Schwan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3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to conclude that all animals are made of cel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6635880" y="2643120"/>
            <a:ext cx="63360" cy="1015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3048120" y="3809880"/>
            <a:ext cx="2666880" cy="20005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5"/>
          <a:stretch/>
        </p:blipFill>
        <p:spPr>
          <a:xfrm>
            <a:off x="6095880" y="3809880"/>
            <a:ext cx="2819520" cy="1900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[Theodor Schwann]"/>
          <p:cNvPicPr/>
          <p:nvPr/>
        </p:nvPicPr>
        <p:blipFill>
          <a:blip r:embed="rId6"/>
          <a:stretch/>
        </p:blipFill>
        <p:spPr>
          <a:xfrm>
            <a:off x="457200" y="3429000"/>
            <a:ext cx="20383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udolf Vircho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4572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55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s reproduce: that is where new cells come fr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a cell exists, there must have been a pre-existing cell…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Image:Rudolf Virchow.jpg"/>
          <p:cNvPicPr/>
          <p:nvPr/>
        </p:nvPicPr>
        <p:blipFill>
          <a:blip r:embed="rId4"/>
          <a:stretch/>
        </p:blipFill>
        <p:spPr>
          <a:xfrm>
            <a:off x="5361120" y="1981080"/>
            <a:ext cx="27651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the Cell Theory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All living things are made of cells. (Schleiden = plants, Schwann = animal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Cells are the basic units of structure and function in living thi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New cells are produced from existing cell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Virchow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Prokaryotes and Eukaryo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2743200" cy="23065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2382840" y="2871720"/>
            <a:ext cx="2448000" cy="21859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5791320" y="3962520"/>
            <a:ext cx="3174840" cy="23810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457200" y="3809880"/>
            <a:ext cx="2187720" cy="26672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5791320" y="1219320"/>
            <a:ext cx="3124080" cy="218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ord origi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…..        means ‘tru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….        Means ‘earlier than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ryon…..  means  ‘kernel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elle…means ‘mini-organ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Cells Come in a Variety of Shapes and Siz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6148440" y="2792520"/>
            <a:ext cx="2125440" cy="171756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52280" y="2589840"/>
            <a:ext cx="601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d8009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009f"/>
                </a:solidFill>
                <a:latin typeface="Comic Sans MS"/>
                <a:ea typeface="新細明體"/>
              </a:rPr>
              <a:t> </a:t>
            </a:r>
            <a:r>
              <a:rPr b="1" lang="en-US" sz="2800" spc="-1" strike="noStrike">
                <a:solidFill>
                  <a:srgbClr val="d8009f"/>
                </a:solidFill>
                <a:latin typeface="Comic Sans MS"/>
                <a:ea typeface="新細明體"/>
              </a:rPr>
              <a:t>Smallest= mycoplasma bacteria (0.2 µm in diamet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4723560"/>
            <a:ext cx="61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d8009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009f"/>
                </a:solidFill>
                <a:latin typeface="Comic Sans MS"/>
                <a:ea typeface="新細明體"/>
              </a:rPr>
              <a:t> </a:t>
            </a:r>
            <a:r>
              <a:rPr b="1" lang="en-US" sz="2800" spc="-1" strike="noStrike">
                <a:solidFill>
                  <a:srgbClr val="d8009f"/>
                </a:solidFill>
                <a:latin typeface="Comic Sans MS"/>
                <a:ea typeface="新細明體"/>
              </a:rPr>
              <a:t>Largest = </a:t>
            </a:r>
            <a:r>
              <a:rPr b="1" i="1" lang="en-US" sz="2800" spc="-1" strike="noStrike">
                <a:solidFill>
                  <a:srgbClr val="d8009f"/>
                </a:solidFill>
                <a:latin typeface="Comic Sans MS"/>
                <a:ea typeface="新細明體"/>
              </a:rPr>
              <a:t>Chaos chaos </a:t>
            </a:r>
            <a:r>
              <a:rPr b="1" lang="en-US" sz="2800" spc="-1" strike="noStrike">
                <a:solidFill>
                  <a:srgbClr val="d8009f"/>
                </a:solidFill>
                <a:latin typeface="Comic Sans MS"/>
                <a:ea typeface="新細明體"/>
              </a:rPr>
              <a:t>amoeba (1000 µm in diamet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-457200" y="175104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d8009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009f"/>
                </a:solidFill>
                <a:latin typeface="Comic Sans MS"/>
                <a:ea typeface="新細明體"/>
              </a:rPr>
              <a:t> </a:t>
            </a:r>
            <a:r>
              <a:rPr b="1" lang="en-US" sz="2800" spc="-1" strike="noStrike">
                <a:solidFill>
                  <a:srgbClr val="d8009f"/>
                </a:solidFill>
                <a:latin typeface="Comic Sans MS"/>
                <a:ea typeface="新細明體"/>
              </a:rPr>
              <a:t>Most cells = 5 to 50 µm in diame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553080" y="4191120"/>
            <a:ext cx="2311560" cy="23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540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457200" y="228600"/>
          <a:ext cx="8229600" cy="4786200"/>
        </p:xfrm>
        <a:graphic>
          <a:graphicData uri="http://schemas.openxmlformats.org/drawingml/2006/table">
            <a:tbl>
              <a:tblPr/>
              <a:tblGrid>
                <a:gridCol w="2351160"/>
                <a:gridCol w="2419200"/>
                <a:gridCol w="3459240"/>
              </a:tblGrid>
              <a:tr h="860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新細明體"/>
                        </a:rPr>
                        <a:t>Prokaryot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新細明體"/>
                        </a:rPr>
                        <a:t>Eukaryot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1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Size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Usually smaller and simpl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Usually larger and more comple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1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Nucleus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Abs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8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1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Genetic Material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Not in nucleu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In nucleus (separate from rest of cell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1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Example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Bacteri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Plants, animals, fungi, protis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429000" y="5029200"/>
            <a:ext cx="1143000" cy="10555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5257800" y="5105520"/>
            <a:ext cx="1066680" cy="10094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7162920" y="5181480"/>
            <a:ext cx="804600" cy="9144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6324480" y="5791320"/>
            <a:ext cx="1067040" cy="10666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7391520" y="6033960"/>
            <a:ext cx="143496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0" y="190440"/>
          <a:ext cx="8839080" cy="6629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0440"/>
                    <a:ext cx="883908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Prokaryotic Cell Parts: Bacte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828800" y="1527120"/>
            <a:ext cx="6095880" cy="402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are these cells the same and how are they differ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04920" y="1600200"/>
          <a:ext cx="3198600" cy="21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00200"/>
                    <a:ext cx="319860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3962520" y="1600200"/>
            <a:ext cx="1447560" cy="21891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07-04x2-EColi.jpg"/>
          <p:cNvPicPr/>
          <p:nvPr/>
        </p:nvPicPr>
        <p:blipFill>
          <a:blip r:embed="rId4"/>
          <a:stretch/>
        </p:blipFill>
        <p:spPr>
          <a:xfrm>
            <a:off x="1219320" y="4191120"/>
            <a:ext cx="2528640" cy="21891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 flipH="1">
            <a:off x="11412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5486400" y="4267080"/>
            <a:ext cx="2990880" cy="22431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5867280" y="1523880"/>
            <a:ext cx="304812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c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15364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ell is the basic unit of lif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ell is a structure within a living thing that has a boundary surrounding the material insi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2590920" y="3429000"/>
            <a:ext cx="4190760" cy="28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small is a c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07-01-CellSizeScale-L.gif"/>
          <p:cNvPicPr/>
          <p:nvPr/>
        </p:nvPicPr>
        <p:blipFill>
          <a:blip r:embed="rId1"/>
          <a:stretch/>
        </p:blipFill>
        <p:spPr>
          <a:xfrm>
            <a:off x="3048120" y="1219320"/>
            <a:ext cx="32526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were cells discover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257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ientists were curious about what living things were made of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 they created microscopes to take a closer look at living thin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6019920" y="1600200"/>
            <a:ext cx="2036520" cy="20368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6095880" y="411480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ere the main people involved in the discovery of cel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09680" y="1981080"/>
            <a:ext cx="5181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on van Leeuwenh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ert Hoo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ert Br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thias Schlei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odor Scwan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dolf Virch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ton von Leeuwenhoe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686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600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to see and describe cel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d a simple microscope (one len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ed at tiny living organisms in a drop of pond water (“wee beasties”)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5"/>
          <a:stretch/>
        </p:blipFill>
        <p:spPr>
          <a:xfrm>
            <a:off x="1143000" y="4359240"/>
            <a:ext cx="2584440" cy="23256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6"/>
          <a:stretch/>
        </p:blipFill>
        <p:spPr>
          <a:xfrm>
            <a:off x="4343400" y="4300560"/>
            <a:ext cx="4267080" cy="22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obert Hook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410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665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to use the term, “cells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d a compound microscope (2 lense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ed at a slice of cork (dead cell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ed for seeing, describing, and explain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6324480" y="1600200"/>
            <a:ext cx="1737000" cy="21891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7"/>
          <a:stretch/>
        </p:blipFill>
        <p:spPr>
          <a:xfrm>
            <a:off x="6095880" y="3886200"/>
            <a:ext cx="231948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obert Brow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3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to identify the nucle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ized that nucleus was doing something importan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1495440" y="4038480"/>
            <a:ext cx="1876320" cy="25909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>
            <a:off x="4419720" y="4038480"/>
            <a:ext cx="25905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1T03:05:11Z</dcterms:created>
  <dc:creator>Theresa DeLaurentis</dc:creator>
  <dc:description/>
  <dc:language>en-US</dc:language>
  <cp:lastModifiedBy>Preferred Customer</cp:lastModifiedBy>
  <dcterms:modified xsi:type="dcterms:W3CDTF">2009-11-04T02:30:33Z</dcterms:modified>
  <cp:revision>17</cp:revision>
  <dc:subject/>
  <dc:title>Are All Cells Alike?</dc:title>
</cp:coreProperties>
</file>